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8CB-C163-47E6-9222-C1FC4E9D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BCD-640B-4A3B-9408-4C898722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C01-1DBB-4796-B826-A73B6FC3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09D-CB54-42D1-B7C7-DBAE2D3B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A08-BF8B-4DFE-B213-56FEEE3F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0B2-DC7A-4CBF-940C-54F9C56B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356-79FA-4B6C-A54B-A7B09675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FA9-DD7A-4BB8-95B6-549BA423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59A-4728-43A8-9C48-5D5EA187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783-609F-4051-AEEB-F39E5B95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9ED-4DC5-4F88-B8AD-E15F9E80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4CE-25DE-4699-8440-31B916E8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1BDD-3541-4320-A9DB-5F7DD2A3C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images.google.com/imgres?imgurl=http://www1.istockphoto.com/file_thumbview_approve/2992953/2/istockphoto_2992953_lincoln_penny&amp;imgrefurl=http://archive.constantcontact.com/fs068/1102305396748/archive/1102305847920.html&amp;usg=__dXsZE46Ovbrc0t4cMh8CJg3Ift8=&amp;h=367&amp;w=380&amp;sz=82&amp;hl=en&amp;start=2&amp;tbnid=8Da0st9FRG3erM:&amp;tbnh=119&amp;tbnw=123&amp;prev=/images%3Fq%3DPenny%26gbv%3D2%26hl%3Den%26sa%3D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om/imgres?imgurl=http://www.usmint.gov/historianscorner/images/keelNickelProof_obv.jpg&amp;imgrefurl=http://www.usmint.gov/historianscorner/index.cfm%3Fflash%3Dno%26action%3DcoinDetail%26id%3D28872&amp;usg=__HzH1SjhTW_1gkb_Ua9h3KEcBkD8=&amp;h=1150&amp;w=1136&amp;sz=364&amp;hl=en&amp;start=3&amp;tbnid=MY12BuSFyOFq7M:&amp;tbnh=150&amp;tbnw=148&amp;prev=/images%3Fq%3Dnickel%26gbv%3D2%26hl%3Den%26sa%3DG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hyperlink" Target="http://images.google.com/imgres?imgurl=http://www.usmint.gov/historianscorner/images/keelNickelProof_obv.jpg&amp;imgrefurl=http://www.usmint.gov/historianscorner/index.cfm%3Fflash%3Dno%26action%3DcoinDetail%26id%3D28872&amp;usg=__HzH1SjhTW_1gkb_Ua9h3KEcBkD8=&amp;h=1150&amp;w=1136&amp;sz=364&amp;hl=en&amp;start=3&amp;tbnid=MY12BuSFyOFq7M:&amp;tbnh=150&amp;tbnw=148&amp;prev=/images%3Fq%3Dnickel%26gbv%3D2%26hl%3Den%26sa%3DG" TargetMode="External"/><Relationship Id="rId11" Type="http://schemas.openxmlformats.org/officeDocument/2006/relationships/image" Target="../media/image4.jpe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1.istockphoto.com/file_thumbview_approve/2992953/2/istockphoto_2992953_lincoln_penny&amp;imgrefurl=http://archive.constantcontact.com/fs068/1102305396748/archive/1102305847920.html&amp;usg=__dXsZE46Ovbrc0t4cMh8CJg3Ift8=&amp;h=367&amp;w=380&amp;sz=82&amp;hl=en&amp;start=2&amp;tbnid=8Da0st9FRG3erM:&amp;tbnh=119&amp;tbnw=123&amp;prev=/images%3Fq%3DPenny%26gbv%3D2%26hl%3Den%26sa%3D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smint.gov/historianscorner/images/keelNickelProof_obv.jpg&amp;imgrefurl=http://www.usmint.gov/historianscorner/index.cfm%3Fflash%3Dno%26action%3DcoinDetail%26id%3D28872&amp;usg=__HzH1SjhTW_1gkb_Ua9h3KEcBkD8=&amp;h=1150&amp;w=1136&amp;sz=364&amp;hl=en&amp;start=3&amp;tbnid=MY12BuSFyOFq7M:&amp;tbnh=150&amp;tbnw=148&amp;prev=/images%3Fq%3Dnickel%26gbv%3D2%26hl%3Den%26sa%3D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1/17/2005_Dime_Obv_Unc_P.png/603px-2005_Dime_Obv_Unc_P.png&amp;imgrefurl=http://www.masscops.com/forums/showthread.php%3Fp%3D346162&amp;usg=__rYsa12sXDFocNV1mv0SUNrGu7uk=&amp;h=599&amp;w=603&amp;sz=374&amp;hl=en&amp;start=1&amp;tbnid=KxYf551Um48zKM:&amp;tbnh=134&amp;tbnw=135&amp;prev=/images%3Fq%3Ddime%26gbv%3D2%26hl%3Den%26sa%3D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1.istockphoto.com/file_thumbview_approve/2992953/2/istockphoto_2992953_lincoln_penny&amp;imgrefurl=http://archive.constantcontact.com/fs068/1102305396748/archive/1102305847920.html&amp;usg=__dXsZE46Ovbrc0t4cMh8CJg3Ift8=&amp;h=367&amp;w=380&amp;sz=82&amp;hl=en&amp;start=2&amp;tbnid=8Da0st9FRG3erM:&amp;tbnh=119&amp;tbnw=123&amp;prev=/images%3Fq%3DPenny%26gbv%3D2%26hl%3Den%26sa%3D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smint.gov/historianscorner/images/keelNickelProof_obv.jpg&amp;imgrefurl=http://www.usmint.gov/historianscorner/index.cfm%3Fflash%3Dno%26action%3DcoinDetail%26id%3D28872&amp;usg=__HzH1SjhTW_1gkb_Ua9h3KEcBkD8=&amp;h=1150&amp;w=1136&amp;sz=364&amp;hl=en&amp;start=3&amp;tbnid=MY12BuSFyOFq7M:&amp;tbnh=150&amp;tbnw=148&amp;prev=/images%3Fq%3Dnickel%26gbv%3D2%26hl%3Den%26sa%3D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7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 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oins-main_Full"/>
          <p:cNvPicPr/>
          <p:nvPr/>
        </p:nvPicPr>
        <p:blipFill>
          <a:blip r:embed="rId1"/>
          <a:stretch/>
        </p:blipFill>
        <p:spPr>
          <a:xfrm>
            <a:off x="228600" y="0"/>
            <a:ext cx="4048200" cy="3038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oins-main_Full"/>
          <p:cNvPicPr/>
          <p:nvPr/>
        </p:nvPicPr>
        <p:blipFill>
          <a:blip r:embed="rId2"/>
          <a:stretch/>
        </p:blipFill>
        <p:spPr>
          <a:xfrm>
            <a:off x="4648320" y="0"/>
            <a:ext cx="4124160" cy="30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4114800" y="53352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istockphoto_2992953_lincoln_penn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14800" y="990720"/>
            <a:ext cx="914400" cy="2482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keelNickelProof_obv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14800" y="1066680"/>
            <a:ext cx="914400" cy="310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8"/>
          <a:stretch/>
        </p:blipFill>
        <p:spPr>
          <a:xfrm>
            <a:off x="0" y="304920"/>
            <a:ext cx="9144000" cy="34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9"/>
          <a:stretch/>
        </p:blipFill>
        <p:spPr>
          <a:xfrm>
            <a:off x="304920" y="3505320"/>
            <a:ext cx="8534160" cy="16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keelNickelProof_obv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114800" y="838080"/>
            <a:ext cx="914400" cy="304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penny you ad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penny you ad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nny is worth one 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nny is worth one c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stockphoto_2992953_lincoln_pen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3124080"/>
            <a:ext cx="990360" cy="959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 flipV="1">
            <a:off x="3679920" y="3110760"/>
            <a:ext cx="355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041000" y="3048120"/>
            <a:ext cx="300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      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nickel you add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nickel you add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ickel is worth five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ickel is worth five c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keelNickelProof_ob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895480"/>
            <a:ext cx="1409760" cy="1428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4117320" y="3124080"/>
            <a:ext cx="276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     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>
            <a:off x="44197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dime you add 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dime you add 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me is worth ten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me is worth ten c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603px-2005_Dime_Obv_Unc_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124080"/>
            <a:ext cx="914400" cy="906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4117320" y="3124080"/>
            <a:ext cx="300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      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3"/>
          <a:stretch/>
        </p:blipFill>
        <p:spPr>
          <a:xfrm>
            <a:off x="42670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penny you ad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penny you ad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nny is worth one 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nny is worth one c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istockphoto_2992953_lincoln_pen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3124080"/>
            <a:ext cx="990360" cy="959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 flipV="1">
            <a:off x="3679920" y="3110760"/>
            <a:ext cx="355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041000" y="3048120"/>
            <a:ext cx="300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      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nickel you add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nickel you add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ickel is worth five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ickel is worth five c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keelNickelProof_ob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895480"/>
            <a:ext cx="1409760" cy="1428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4117320" y="3124080"/>
            <a:ext cx="276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     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44197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3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dime you add 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dime you add 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me is worth ten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me is worth ten c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603px-2005_Dime_Obv_Unc_P"/>
          <p:cNvPicPr/>
          <p:nvPr/>
        </p:nvPicPr>
        <p:blipFill>
          <a:blip r:embed="rId1"/>
          <a:stretch/>
        </p:blipFill>
        <p:spPr>
          <a:xfrm>
            <a:off x="1523880" y="3124080"/>
            <a:ext cx="914400" cy="906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4117320" y="3124080"/>
            <a:ext cx="300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      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42670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6:47:05Z</dcterms:created>
  <dc:creator>Cobb County School District</dc:creator>
  <dc:description/>
  <dc:language>en-US</dc:language>
  <cp:lastModifiedBy>Student</cp:lastModifiedBy>
  <dcterms:modified xsi:type="dcterms:W3CDTF">2011-03-03T16:56:16Z</dcterms:modified>
  <cp:revision>5</cp:revision>
  <dc:subject/>
  <dc:title>The Change Chant</dc:title>
</cp:coreProperties>
</file>